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082-66BD-4C8F-92B7-932C38E4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F70-3A88-4920-A654-E4AE8463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131-AC82-4B12-AB0B-4DE01DA2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7D4-8780-4F08-B182-85D588DF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AE73-EB1E-47BD-AFF4-CB4075EB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672F-60A3-4F78-B030-D37F7F89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F383-9430-419B-A7B7-2303E99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58F6-9CD2-4B99-B080-1E0E5CA7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527C-6276-4C0D-B6D4-4342279D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3FD7-C299-4E6B-88DC-3C9C4BD1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9796-6B69-43B5-A94C-F673EF4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6E8-D01F-4638-B506-00081BE4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492-108E-4FFD-B301-3F988285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C7E5-9B7F-4E0A-BE25-037B9E1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EBEE-2EB2-470A-9E6A-C4FAAAAD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A8E6-37C3-452B-8452-545F0B2C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6904-3061-43B0-A254-E9C45E8C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07B-D9CC-4471-8888-F2FF56FE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812-909B-4380-909F-D29B0A76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01C-08D7-447D-B54B-9F15ECE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D10-806B-4C67-913C-0090E650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D0F-9671-45FD-89A1-9CC94987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D88-05E9-472C-B82C-4F1B00A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6EE-99A1-4E4E-99DA-1CE4C6F8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557F-D5E9-4FB9-99EB-A8DA301DE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E25B-52B4-495F-BD94-9D532F75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разовательная среда образовательного учрежд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Творческие способности для нас – это 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расположенность к творчеству, свойства, присущие каждому без исключения человеку от рождения и развиваемые в процессе становлен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ыготский Л.С., Э. Фромм, Я.А. Пономарев,  К. и Н. Роджерс, Л.А. Большакова, О,И. Мотков, А.И.Савенков, А.Лоб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Образовательная среда для нас – это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ая сфера всех субъектов образования (педагога, ребёнка, родителя), в которой каждый из них одновременно и её творец и проду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возможностей и жизненных ш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.Т. Шацкий, Е.А. Климов, Г.А. Ковалёв, А.Н.Тубельский, В.А. Ясв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образовательной сред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25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ющие на развитие инициативы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ых (творческих) способностей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здания, размер и пространственная структура внутренних помещений, лёгкость пространственной трансформации при возникшей необходимости, возможность и широта пространственных перемещений 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 жизни (помещения, мебель, оборудование, пособ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, гигиенические условия (микроклимат, чистота, безопас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часть (правила внутреннего распорядка, устав, законы, средства наглядности, рекламы, любые идеи, выраженные в той или иной форме, требования, приказы, советы, пожелания, поручения, сообщения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ическая часть (здоровье, самочувст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, приёмы,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ая и социальная плотность, степень скученности и его влияния на социальное поведение, личностные особенности педагогов и воспитанников, распределение статусов и ролей, половозрастные и национальные особен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пример окружающих, их культура, опыт, образ жизни, деятельность, поведение, взаимоотнош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, организации, группы и их представители, с которыми приходится реально взаимодейств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тройство» группы (своей) и коллективов, с которыми контактирует человек (наличие выделившихся по тем или иным основаниям «лидеров», преуспевающих», «звёзд», отстающих, «отверженных» и т.д.); реальное место человека в данной группе, включённость его в другие группы группировки, уровень его защищённости от различного рода посяга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Типы образовательной среды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902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щие диагностические вопросы для определения типа образовательной сред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Свобода – зависим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Чьи интересы и ценности ставятся на первое место в данной образовательной сре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личности или общества (групп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то к кому подстраивается в процессе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оспитатель к ребенку или ребенок к воспита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ая форма воспитания преимущественно осуществляется в данной образовательной среде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 или коллективная (групповая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Активность – пассив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актикуется ли в данной образовательной среде какое-либо наказание реб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тимулируется ли в данной образовательной среде проявление ребенком  инициатив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Находят ли какой-либо положительный отклик в данной образовательной среде те или иные творческие проявления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минант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лока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истеме ценнос­тей субъек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го процесса. Доминантность описывает образовательную среду по критер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значимое — незначимо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нс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насыщ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й среды условиями, влияниями и возможностями, а такж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центр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х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герентность (согласованность)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армоничность -негармоничность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оказате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и согласова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х локальных образовательных сред, функциональным субъектом которых выступает данная 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обильность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чным эволюцион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­ния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контексте взаимоотношений со средой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бщен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координ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ятельности всех субъектов данной образователь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ознаваемость образовате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а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нательной включё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ё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ех субъект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активность образовательной сре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епень е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ияния на среду обит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стойчив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бильност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Широта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епен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ую образовательную сре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, объектов, процессов и явл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 их многообраз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моциона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н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моционального и рациональ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1T05:01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